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9926640" cy="679752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05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622840" y="-360"/>
            <a:ext cx="430056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1960" y="509400"/>
            <a:ext cx="3398760" cy="2547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0880" cy="30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0560" cy="3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5622840" y="6456240"/>
            <a:ext cx="4300560" cy="3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A0B814-6E68-4EB7-A34B-B959CC6ECDC2}" type="slidenum">
              <a:rPr b="0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22840" y="645624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8C6F97-EDB0-4F9A-8FE4-E44B968FB5D2}" type="slidenum">
              <a:rPr b="0" lang="nb-N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622840" y="645624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7C3956-F375-4229-9D86-4054C4575153}" type="slidenum">
              <a:rPr b="0" lang="nb-N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622840" y="645624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0377DB-4CED-459D-896E-F01DB7093535}" type="slidenum">
              <a:rPr b="0" lang="nb-N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622840" y="645624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4604A9-0DC3-4524-B844-8B670ECED3FD}" type="slidenum">
              <a:rPr b="0" lang="nb-N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622840" y="645624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DAF3A3-1084-4268-87CC-97E05BDE199A}" type="slidenum">
              <a:rPr b="0" lang="nb-N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622840" y="645624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A0B349-5F9A-49E3-BAA5-1187DB333DF8}" type="slidenum">
              <a:rPr b="0" lang="nb-N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622840" y="645624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42C628-BF3D-4DC3-9F55-BC4F188CCF88}" type="slidenum">
              <a:rPr b="0" lang="nb-N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622840" y="645624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E63811-14DF-4C1F-B03B-A6BD902C8418}" type="slidenum">
              <a:rPr b="0" lang="nb-N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622840" y="6456240"/>
            <a:ext cx="43005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4F37DD-7340-4FD7-8517-EF34F0F37E5E}" type="slidenum">
              <a:rPr b="0" lang="nb-NO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467-D1E7-4A23-9C0E-E3688DB2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1AD-96BB-4EF4-9489-AEEFEEF2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4FC-F7F0-4347-A18F-3030DFC4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013B-C795-4A5A-8A64-7F963E7F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B5B-7DF7-4D62-85C0-6176EA35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FC0-DAE4-4232-A91E-0AD7DB8A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2C9-45C8-469A-AF37-0FAE1468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457E-9240-4E3A-9E8D-293EE733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386-F110-49DF-A311-7C54C915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E6F-6662-4E59-AC87-5CEBED47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F56-0EB5-4D8C-B06B-804363FB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2E7-C76D-454F-8386-F175880F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b-NO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16. des. 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b-NO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CB8D7C-DA95-401D-87AE-D5070BCF4A41}" type="slidenum">
              <a:rPr b="0" lang="nb-NO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231480"/>
            <a:ext cx="7629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Liv er bevege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"/>
          <p:cNvSpPr/>
          <p:nvPr/>
        </p:nvSpPr>
        <p:spPr>
          <a:xfrm>
            <a:off x="395280" y="333360"/>
            <a:ext cx="1440" cy="619128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611280" y="1052640"/>
            <a:ext cx="8208720" cy="1440"/>
          </a:xfrm>
          <a:prstGeom prst="line">
            <a:avLst/>
          </a:prstGeom>
          <a:ln cap="sq"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843280" y="1989000"/>
            <a:ext cx="3095640" cy="3600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454920" y="5738760"/>
            <a:ext cx="207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Bjørn Bakkes berett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November 20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ISPO Nor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868480" y="1197000"/>
            <a:ext cx="2838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e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nb-NO" sz="2000" spc="-1" strike="noStrike">
                <a:solidFill>
                  <a:srgbClr val="000000"/>
                </a:solidFill>
                <a:latin typeface="Arial"/>
              </a:rPr>
              <a:t>Meningen med livet </a:t>
            </a:r>
            <a:r>
              <a:rPr b="1" i="1" lang="nb-NO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231480"/>
            <a:ext cx="7629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Holdningene i dag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395280" y="333360"/>
            <a:ext cx="1440" cy="619128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611280" y="1052640"/>
            <a:ext cx="8208720" cy="1440"/>
          </a:xfrm>
          <a:prstGeom prst="line">
            <a:avLst/>
          </a:prstGeom>
          <a:ln cap="sq"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1280" y="1125360"/>
            <a:ext cx="76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10920" y="1377720"/>
            <a:ext cx="7993080" cy="29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N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 frisk, har kun et handikap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(hvem har ikke det 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Får til alt jeg vil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(vel, nesten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TTT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(ting tar tid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Godt og meningsfylt liv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(kone, barn, hus, jobb, hobbyer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Bor i et land som tar vare på sine sy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Vil være en nyttig samfunnsborger;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pay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stork_og_frosk"/>
          <p:cNvPicPr/>
          <p:nvPr/>
        </p:nvPicPr>
        <p:blipFill>
          <a:blip r:embed="rId1"/>
          <a:stretch/>
        </p:blipFill>
        <p:spPr>
          <a:xfrm>
            <a:off x="2038320" y="189000"/>
            <a:ext cx="48722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231480"/>
            <a:ext cx="7629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Lykke ti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395280" y="333360"/>
            <a:ext cx="1440" cy="619128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611280" y="1052640"/>
            <a:ext cx="8208720" cy="1440"/>
          </a:xfrm>
          <a:prstGeom prst="line">
            <a:avLst/>
          </a:prstGeom>
          <a:ln cap="sq"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11280" y="1125360"/>
            <a:ext cx="76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985080" cy="5237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2031840" y="3160800"/>
            <a:ext cx="30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eningen med live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pilletrille"/>
          <p:cNvPicPr/>
          <p:nvPr/>
        </p:nvPicPr>
        <p:blipFill>
          <a:blip r:embed="rId1"/>
          <a:stretch/>
        </p:blipFill>
        <p:spPr>
          <a:xfrm>
            <a:off x="2987640" y="189000"/>
            <a:ext cx="25369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0920" y="231480"/>
            <a:ext cx="7629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Histori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>
            <a:off x="395280" y="333360"/>
            <a:ext cx="1440" cy="619128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611280" y="1052640"/>
            <a:ext cx="8208720" cy="1440"/>
          </a:xfrm>
          <a:prstGeom prst="line">
            <a:avLst/>
          </a:prstGeom>
          <a:ln cap="sq"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11280" y="1125360"/>
            <a:ext cx="76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lag august 2004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(SørlendingenTorkildsen tok gull i Athen OL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Venstresidig infarkt med høyresidig utfall (total pare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Glad gutt med kone, 4 gutter og gammelt 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elvstendig næringsdrivende som systemkonsu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eilte mye med k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43280" y="3456000"/>
            <a:ext cx="4105080" cy="2913120"/>
          </a:xfrm>
          <a:prstGeom prst="rect">
            <a:avLst/>
          </a:prstGeom>
          <a:ln w="0">
            <a:noFill/>
          </a:ln>
        </p:spPr>
      </p:pic>
      <p:sp>
        <p:nvSpPr>
          <p:cNvPr id="62" name="Line 7"/>
          <p:cNvSpPr/>
          <p:nvPr/>
        </p:nvSpPr>
        <p:spPr>
          <a:xfrm flipH="1">
            <a:off x="4284720" y="3933720"/>
            <a:ext cx="147600" cy="43200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1"/>
          <p:cNvSpPr/>
          <p:nvPr/>
        </p:nvSpPr>
        <p:spPr>
          <a:xfrm>
            <a:off x="7658280" y="3774960"/>
            <a:ext cx="1081080" cy="576360"/>
          </a:xfrm>
          <a:prstGeom prst="ellipse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31480"/>
            <a:ext cx="7629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Holdningen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395280" y="333360"/>
            <a:ext cx="1440" cy="619128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611280" y="1052640"/>
            <a:ext cx="8208720" cy="1440"/>
          </a:xfrm>
          <a:prstGeom prst="line">
            <a:avLst/>
          </a:prstGeom>
          <a:ln cap="sq"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3520" y="1312920"/>
            <a:ext cx="765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11280" y="1378080"/>
            <a:ext cx="820872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n gang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Bagatellisering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(fin igjen om 2-3 uker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Forvirring og mistro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(hvordan er det mulig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Fortvilelse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(miste jobb, selge hus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Erkjenne, forstå, akseptere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(gjort er gjort, spist er sp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En </a:t>
            </a:r>
            <a:r>
              <a:rPr b="1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jobb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 må gjøres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(5-6 timer trening hver dag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Hva </a:t>
            </a:r>
            <a:r>
              <a:rPr b="0" i="1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er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 slag</a:t>
            </a:r>
            <a:r>
              <a:rPr b="0" i="1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– ny kunnskap!</a:t>
            </a:r>
            <a:r>
              <a:rPr b="0" i="1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(Helsevesen, fysio, Kress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Gjøre det sjøl”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(ingen kan gjøre jobben for m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ff0000"/>
                </a:solidFill>
                <a:latin typeface="Arial"/>
                <a:ea typeface="Arial"/>
              </a:rPr>
              <a:t>Omgivelsene forstår ikk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7721280" y="38606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1800" spc="-1" strike="noStrike">
                <a:solidFill>
                  <a:srgbClr val="000099"/>
                </a:solidFill>
                <a:latin typeface="Arial"/>
              </a:rPr>
              <a:t>Mantr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 flipH="1">
            <a:off x="7053120" y="4005360"/>
            <a:ext cx="363600" cy="144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Arial"/>
              </a:rPr>
              <a:t>Risikofaktoren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64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Høyt blodtrykk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(stress, 12-13 timers arbeidsdag + rehabilitering av gammelt h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Høy vekt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(&gt; 0,1 ton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Høyt blodsukker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(elsket alt søtt + kaker + te med masse suk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Høyt kolesterol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(saltmat og reker og spekemat og sild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Nikotin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(40 Pall Mall uten filter + en pipe eller to om dagen + Tiedemanns Gul nr. 3 + sigarer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Alkohol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(jo takk, når anledningen bød seg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231480"/>
            <a:ext cx="7629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Målsettingene …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"/>
          <p:cNvSpPr/>
          <p:nvPr/>
        </p:nvSpPr>
        <p:spPr>
          <a:xfrm>
            <a:off x="395280" y="333360"/>
            <a:ext cx="1440" cy="619128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611280" y="1052640"/>
            <a:ext cx="8208720" cy="1440"/>
          </a:xfrm>
          <a:prstGeom prst="line">
            <a:avLst/>
          </a:prstGeom>
          <a:ln cap="sq"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611280" y="1125360"/>
            <a:ext cx="76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2371680" cy="2664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6659640" y="1197000"/>
            <a:ext cx="2155680" cy="314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5003640" y="3573360"/>
            <a:ext cx="193356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4"/>
          <a:stretch/>
        </p:blipFill>
        <p:spPr>
          <a:xfrm>
            <a:off x="611280" y="3898800"/>
            <a:ext cx="3889440" cy="259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5"/>
          <a:stretch/>
        </p:blipFill>
        <p:spPr>
          <a:xfrm>
            <a:off x="3132000" y="1197000"/>
            <a:ext cx="2333880" cy="3524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231480"/>
            <a:ext cx="7629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N E I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"/>
          <p:cNvSpPr/>
          <p:nvPr/>
        </p:nvSpPr>
        <p:spPr>
          <a:xfrm>
            <a:off x="395280" y="333360"/>
            <a:ext cx="1440" cy="619128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611280" y="1052640"/>
            <a:ext cx="8208720" cy="1440"/>
          </a:xfrm>
          <a:prstGeom prst="line">
            <a:avLst/>
          </a:prstGeom>
          <a:ln cap="sq"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611280" y="1125360"/>
            <a:ext cx="76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11280" y="119664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b-NO" sz="2000" spc="-1" strike="noStrike">
                <a:solidFill>
                  <a:srgbClr val="ff0000"/>
                </a:solidFill>
                <a:latin typeface="Arial"/>
              </a:rPr>
              <a:t>Jeg satte min </a:t>
            </a:r>
            <a:r>
              <a:rPr b="1" lang="nb-NO" sz="2000" spc="-1" strike="noStrike" u="sng">
                <a:solidFill>
                  <a:srgbClr val="3333cc"/>
                </a:solidFill>
                <a:uFillTx/>
                <a:latin typeface="Arial"/>
              </a:rPr>
              <a:t>egne</a:t>
            </a:r>
            <a:r>
              <a:rPr b="1" lang="nb-NO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nb-NO" sz="2000" spc="-1" strike="noStrike">
                <a:solidFill>
                  <a:srgbClr val="ff0000"/>
                </a:solidFill>
                <a:latin typeface="Arial"/>
              </a:rPr>
              <a:t>må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Vekk med prekestol, rullestol, gåstol, krykker og ankelstøt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pise som vanlig igjen, med kniv, gaffel og sk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krive igjen med penn og tast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1" lang="nb-NO" sz="2000" spc="-1" strike="noStrike">
                <a:solidFill>
                  <a:srgbClr val="ff0000"/>
                </a:solidFill>
                <a:latin typeface="Arial"/>
              </a:rPr>
              <a:t>Men jeg måtte ut av «bobla» – det var det kona som klarte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b-NO" sz="2000" spc="-1" strike="noStrike">
                <a:solidFill>
                  <a:srgbClr val="ff0000"/>
                </a:solidFill>
                <a:latin typeface="Arial"/>
              </a:rPr>
              <a:t>Og nå ble det </a:t>
            </a:r>
            <a:r>
              <a:rPr b="1" lang="nb-NO" sz="2000" spc="-1" strike="noStrike" u="sng">
                <a:solidFill>
                  <a:srgbClr val="3333cc"/>
                </a:solidFill>
                <a:uFillTx/>
                <a:latin typeface="Arial"/>
              </a:rPr>
              <a:t>våre</a:t>
            </a:r>
            <a:r>
              <a:rPr b="1" lang="nb-NO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nb-NO" sz="2000" spc="-1" strike="noStrike">
                <a:solidFill>
                  <a:srgbClr val="ff0000"/>
                </a:solidFill>
                <a:latin typeface="Arial"/>
              </a:rPr>
              <a:t>må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a ut av oppvasken, sett inn i skap, gjøre husarbeid, A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Klippe gressplen og trær og bus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Måke sn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Kjøre 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nekre og male og fixe alt mulig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000"/>
            </a:br>
            <a:r>
              <a:rPr b="1" lang="nb-NO" sz="2000" spc="-1" strike="noStrike">
                <a:solidFill>
                  <a:srgbClr val="ff0000"/>
                </a:solidFill>
                <a:latin typeface="Arial"/>
              </a:rPr>
              <a:t>Jeg </a:t>
            </a:r>
            <a:r>
              <a:rPr b="1" lang="nb-NO" sz="2000" spc="-1" strike="noStrike" u="sng">
                <a:solidFill>
                  <a:srgbClr val="ff0000"/>
                </a:solidFill>
                <a:uFillTx/>
                <a:latin typeface="Arial"/>
              </a:rPr>
              <a:t>skulle</a:t>
            </a:r>
            <a:r>
              <a:rPr b="1" lang="nb-NO" sz="2000" spc="-1" strike="noStrike">
                <a:solidFill>
                  <a:srgbClr val="ff0000"/>
                </a:solidFill>
                <a:latin typeface="Arial"/>
              </a:rPr>
              <a:t> klare alt!  Selv om det tok ti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31480"/>
            <a:ext cx="7629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Liv er bevege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"/>
          <p:cNvSpPr/>
          <p:nvPr/>
        </p:nvSpPr>
        <p:spPr>
          <a:xfrm>
            <a:off x="395280" y="333360"/>
            <a:ext cx="1440" cy="619128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611280" y="1052640"/>
            <a:ext cx="8208720" cy="1440"/>
          </a:xfrm>
          <a:prstGeom prst="line">
            <a:avLst/>
          </a:prstGeom>
          <a:ln cap="sq"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1280" y="1125360"/>
            <a:ext cx="76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1280" y="1196640"/>
            <a:ext cx="8353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Hva </a:t>
            </a:r>
            <a:r>
              <a:rPr b="0" lang="nb-NO" sz="2800" spc="-1" strike="noStrike">
                <a:solidFill>
                  <a:srgbClr val="ff0000"/>
                </a:solidFill>
                <a:latin typeface="Arial"/>
              </a:rPr>
              <a:t>vil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d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Arial"/>
              </a:rPr>
              <a:t>smøre brødskiv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Arial"/>
              </a:rPr>
              <a:t>slå i spik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Arial"/>
              </a:rPr>
              <a:t>ta en dr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Arial"/>
              </a:rPr>
              <a:t>skrive en artikk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Arial"/>
              </a:rPr>
              <a:t>lese en avisartikke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Sett </a:t>
            </a:r>
            <a:r>
              <a:rPr b="0" lang="nb-NO" sz="2800" spc="-1" strike="noStrike">
                <a:solidFill>
                  <a:srgbClr val="ff0000"/>
                </a:solidFill>
                <a:latin typeface="Arial"/>
              </a:rPr>
              <a:t>små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delmå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Kartlegg </a:t>
            </a:r>
            <a:r>
              <a:rPr b="0" lang="nb-NO" sz="2800" spc="-1" strike="noStrike">
                <a:solidFill>
                  <a:srgbClr val="ff0000"/>
                </a:solidFill>
                <a:latin typeface="Arial"/>
              </a:rPr>
              <a:t>fø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Sett av tid til trening, lag uke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Tren, gjenta bevegelsene – </a:t>
            </a:r>
            <a:r>
              <a:rPr b="0" lang="nb-NO" sz="2800" spc="-1" strike="noStrike">
                <a:solidFill>
                  <a:srgbClr val="ff0000"/>
                </a:solidFill>
                <a:latin typeface="Arial"/>
              </a:rPr>
              <a:t>slå 10000 baller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Kartlegg </a:t>
            </a:r>
            <a:r>
              <a:rPr b="0" lang="nb-NO" sz="2800" spc="-1" strike="noStrike">
                <a:solidFill>
                  <a:srgbClr val="ff0000"/>
                </a:solidFill>
                <a:latin typeface="Arial"/>
              </a:rPr>
              <a:t>etterpå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– er målet nåd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Vær </a:t>
            </a:r>
            <a:r>
              <a:rPr b="0" lang="nb-NO" sz="2800" spc="-1" strike="noStrike">
                <a:solidFill>
                  <a:srgbClr val="ff0000"/>
                </a:solidFill>
                <a:latin typeface="Arial"/>
              </a:rPr>
              <a:t>ærlig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mot deg selv (”gjøre det selv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227640" y="126828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3600" spc="-1" strike="noStrike">
                <a:solidFill>
                  <a:srgbClr val="ff0000"/>
                </a:solidFill>
                <a:latin typeface="Arial"/>
              </a:rPr>
              <a:t>Tren på d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3600" spc="-1" strike="noStrike">
                <a:solidFill>
                  <a:srgbClr val="ff0000"/>
                </a:solidFill>
                <a:latin typeface="Arial"/>
              </a:rPr>
              <a:t>du </a:t>
            </a:r>
            <a:r>
              <a:rPr b="0" i="1" lang="nb-NO" sz="3600" spc="-1" strike="noStrike">
                <a:solidFill>
                  <a:srgbClr val="ff0000"/>
                </a:solidFill>
                <a:latin typeface="Arial"/>
              </a:rPr>
              <a:t>ikke</a:t>
            </a:r>
            <a:r>
              <a:rPr b="0" lang="nb-NO" sz="3600" spc="-1" strike="noStrike">
                <a:solidFill>
                  <a:srgbClr val="ff0000"/>
                </a:solidFill>
                <a:latin typeface="Arial"/>
              </a:rPr>
              <a:t> ka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231480"/>
            <a:ext cx="7629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Noen tanker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"/>
          <p:cNvSpPr/>
          <p:nvPr/>
        </p:nvSpPr>
        <p:spPr>
          <a:xfrm>
            <a:off x="395280" y="333360"/>
            <a:ext cx="1440" cy="6191280"/>
          </a:xfrm>
          <a:prstGeom prst="line">
            <a:avLst/>
          </a:prstGeom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611280" y="1052640"/>
            <a:ext cx="8208720" cy="1440"/>
          </a:xfrm>
          <a:prstGeom prst="line">
            <a:avLst/>
          </a:prstGeom>
          <a:ln cap="sq"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11280" y="1125360"/>
            <a:ext cx="76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1280" y="1197000"/>
            <a:ext cx="8353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ff0000"/>
                </a:solidFill>
                <a:latin typeface="Arial"/>
              </a:rPr>
              <a:t>8 – 8 –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Arbeid, fritid, sove – som fø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Jobben er </a:t>
            </a:r>
            <a:r>
              <a:rPr b="0" i="1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nå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å bli br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ff0000"/>
                </a:solidFill>
                <a:latin typeface="Arial"/>
              </a:rPr>
              <a:t>10 eller 40 år igj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Hva skjer i morgen?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Livet er like mye verd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Du har </a:t>
            </a:r>
            <a:r>
              <a:rPr b="1" lang="nb-NO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tid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resten av livet igj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ff0000"/>
                </a:solidFill>
                <a:latin typeface="Arial"/>
              </a:rPr>
              <a:t>50 % =10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Selve om halve kroppen er ”borte”, er dette </a:t>
            </a:r>
            <a:r>
              <a:rPr b="0" i="1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dine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nye 100 %! Det bare er sånn det 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2400" spc="-1" strike="noStrike">
                <a:solidFill>
                  <a:srgbClr val="ff0000"/>
                </a:solidFill>
                <a:latin typeface="Arial"/>
              </a:rPr>
              <a:t>Gleden ved å lykkes – når målet er nå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Stolt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Selvresp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Nysgjerrig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Nye horisonter og må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Glade og stolte pårør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  <a:ea typeface="Arial"/>
              </a:rPr>
              <a:t>Bli nyttig ig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5:48:54Z</dcterms:created>
  <dc:creator>Bjørn</dc:creator>
  <dc:description/>
  <dc:language>en-US</dc:language>
  <cp:lastModifiedBy>Bjørn Bakke</cp:lastModifiedBy>
  <cp:lastPrinted>2018-10-31T13:17:03Z</cp:lastPrinted>
  <dcterms:modified xsi:type="dcterms:W3CDTF">2018-10-31T13:20:12Z</dcterms:modified>
  <cp:revision>31</cp:revision>
  <dc:subject/>
  <dc:title>Liv er bevegelse</dc:title>
</cp:coreProperties>
</file>